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F940-E045-4867-A384-587DE8F47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B81D-0F07-49EA-BE43-6D65E1DF8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B746-0778-4AA5-ADF1-4EC0FB15C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28B6-B810-4FF9-B340-C7F89F670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82017-A32B-4B5D-9549-9F0D0138C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D1C4B-9C7C-49C1-A75E-5ED9A37F6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5DCBB-D638-493B-BC2F-D15D1A30E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8CEAE-2D6D-4A9B-B7CC-B06633FCF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3E7FA-B413-48E4-894C-AB3C2F651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A09AE-AA59-4DEB-B447-C72184019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AFFF8-BA2F-4148-9349-19DFB308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2110-8839-4360-BCA2-294051ED3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873D9-E397-48CC-BF95-29266E54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8DE6E-9744-4233-8619-C14BF9C4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5A7F8-51C5-48C7-86EF-A345B0B54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54A8A-ADE3-4C55-A1CD-C47595FBD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8D377-3931-4FC3-8DBA-1D3B0C4F7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56F7F-31D6-4C75-ACF7-5FB989745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348B1-F3C4-49F6-B734-CD5051BBB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EEAF7-5679-43FA-8CE5-9556317F9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AB573-2461-4CE7-81F8-B4E096E36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DAEB4-A611-417B-8A7B-B2102A1BF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35B5-D6B4-44C5-83DD-48FCF6530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365B6-AF0A-4B4E-B460-162CE4218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E4B19-4436-4436-BE38-64DED849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35DE4-5F7A-464D-8700-BA6F96E9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66C17-F665-44D3-BC38-9A3C0B59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8E287-6198-49AB-AAD7-F84E149E2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3424E-7EF7-40BF-AC76-603CE0366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6E39A-DDE4-443B-8CE6-C5BEAB7E0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67A1C-C6A5-4172-AE20-20AA1EE87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F1E9D-13A9-4137-A81A-FEB1DEBF9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ACB40-4390-4FE2-90E7-A93ECF4BA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7ABF-3A12-4608-85BE-1D17C0FFC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96962-242F-44AA-AAD1-60B7408FA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319CF-1A09-4CC6-9879-E71BF20B1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F3B1D-22B9-46E0-91AA-DCF5C4258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37135-F8A9-477D-9348-0017E0F0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7AE26-5DD1-47BB-85EE-C1E6DA2F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94E27-9478-4073-BD26-1FC1E585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F08B6-9B22-47C1-9A04-56DCC00F3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267CE-381B-4012-BA00-B260EBA36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05476-346C-4D23-8420-8EFB56D38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7D63-D55C-4F2F-9987-DF12A2CDD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D8E4-121A-4F01-B3C0-56EFA422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20BA-8B51-4FDF-9D26-8E9799DF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0039-EEDB-4947-AED6-134DD98B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662B-17F7-484F-AD10-8AB55255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3800B-2757-454B-B022-EED94244BC6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C08DD-D85C-404C-AE74-9D9A53E359B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50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B1E11-5002-4E48-9C0A-2B66E420BEE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97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1C99E-5F93-49D0-B842-C8A4FE303D3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gohomeinterior.com/wp-content/uploads/2011/11/purple-and-black-bedroom-decorate-ideas-gohomeinterior.com_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330066"/>
                </a:solidFill>
                <a:latin typeface="Arial"/>
              </a:rPr>
              <a:t>Mi mansión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or: Julia La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s un garaje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mode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2209680" y="2362320"/>
            <a:ext cx="6096240" cy="4066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s una masi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ón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muy grande y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mpresiona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209680" y="2941560"/>
            <a:ext cx="5410440" cy="3598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s una cocina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 grande y moderna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523880" y="2362320"/>
            <a:ext cx="5943600" cy="40734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l un comedor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bello y nuevo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819520" y="2905200"/>
            <a:ext cx="3962160" cy="39528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s una sala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incredible y impresionant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Cute Purple Sofa For Living room"/>
          <p:cNvPicPr/>
          <p:nvPr/>
        </p:nvPicPr>
        <p:blipFill>
          <a:blip r:embed="rId1"/>
          <a:stretch/>
        </p:blipFill>
        <p:spPr>
          <a:xfrm>
            <a:off x="2286000" y="3429000"/>
            <a:ext cx="4762440" cy="3247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s un cuarto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69343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, fabuloso, y grand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purple and black bedroom decorate ideas - gohomeinterior.co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52480" y="2498760"/>
            <a:ext cx="5029200" cy="40226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s un ba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no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estupendo y moder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2209680" y="3382920"/>
            <a:ext cx="4876920" cy="34750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s una </a:t>
            </a: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piscina cubierta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grande y lujos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905120" y="3076560"/>
            <a:ext cx="5715000" cy="37814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s un jard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ín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boni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Modern Garden Modern Garden"/>
          <p:cNvPicPr/>
          <p:nvPr/>
        </p:nvPicPr>
        <p:blipFill>
          <a:blip r:embed="rId1"/>
          <a:stretch/>
        </p:blipFill>
        <p:spPr>
          <a:xfrm>
            <a:off x="3124080" y="2076480"/>
            <a:ext cx="4496040" cy="44956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15:33:58Z</dcterms:created>
  <dc:creator>landerjul</dc:creator>
  <dc:description/>
  <dc:language>en-US</dc:language>
  <cp:lastModifiedBy>landerjul</cp:lastModifiedBy>
  <dcterms:modified xsi:type="dcterms:W3CDTF">2012-04-11T14:00:27Z</dcterms:modified>
  <cp:revision>4</cp:revision>
  <dc:subject/>
  <dc:title>Mi mansión</dc:title>
</cp:coreProperties>
</file>